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71C-2966-4C43-A657-E8D0EE19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222-3B75-403D-8CD3-883A1516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0AC-2E5D-48F7-8A4C-E0769A7F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168-9C19-4AA0-8EF2-DF8EFD46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90A-A83D-4451-B1F7-B7537423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5B0-C2AD-4F05-90EE-03FCC707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31D-2C26-4890-885D-3430C00A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2F8-6D14-4184-A8BE-EAEB2052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760-FD60-4B77-930A-244D52C8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01A-D629-41FE-9397-9C431A3A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A0A-07A6-4A13-9E24-FC9E26B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06C-7BE7-44C2-B336-075E8F11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1C10-0173-4D54-BD21-D15A15E65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77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Ess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48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ing the paper from beginning to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ing the introduction but in reverse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state the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eneral statement about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losing statement to wrap i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Compare/Contras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to-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ne subject then describe the other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ies-to-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bout how they are similar and then about how they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bout one point for both subjects before moving to anothe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A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Person – this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per, no “I’s” or “you’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resen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A sty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: italics vs. quotation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S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aper is going to tell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paper I will discuss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going to explain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aper is about the similarities and differen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a nutsh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Int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Supporting Detail 1 (Topic 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ok and Movi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Supporting Detail 2 (Topic 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ok and Movi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. Supporting Detail 3 (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ok and Movi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 that you are trying to prove/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organization of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components: claim and details to susta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like a brid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4357800"/>
            <a:ext cx="381240" cy="1523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4357800"/>
            <a:ext cx="381240" cy="1523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4357800"/>
            <a:ext cx="380880" cy="1523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4129200"/>
            <a:ext cx="30481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42195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339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ing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629400" y="557676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791320" y="5576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952880" y="55767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: Cl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- 1 sentence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a stance/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b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in intro and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s and oranges are delicious fr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ong or w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they are fortified with different vitamins, apples and oranges are the best fruits a person can cons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ong or w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: Supporting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he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into topics/categories (that become the body of the ess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re inexpensive compared to other fruits like berries and other seasonal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easily accessible; able to find them all s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d to the juice versions, they provide more direct sources of vitamins and miner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general part of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 for furthe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/catchy opening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define, and/or describe the topic (What will you be talking about? Make a general similarity and difference stateme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he thesis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’s Opening Sentenc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rabs atten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sual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ecd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/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ion / Outrageou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of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supporting detail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 new paragrap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upporting detail = reworded topic sente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t beginning of paragrap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ack it up with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xamples from book AND movi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ynthesize your though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0:10:49Z</dcterms:created>
  <dc:creator>HP Authorized Customer</dc:creator>
  <dc:description/>
  <dc:language>en-US</dc:language>
  <cp:lastModifiedBy>Don Dalton</cp:lastModifiedBy>
  <dcterms:modified xsi:type="dcterms:W3CDTF">2012-02-06T04:48:29Z</dcterms:modified>
  <cp:revision>65</cp:revision>
  <dc:subject/>
  <dc:title>Literary Analysis Paper:</dc:title>
</cp:coreProperties>
</file>